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E3C-6A44-4D37-ACBC-22AC2FB0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6E1-EFDC-4049-B830-F9DAD601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CD4-EB24-4CAB-BAAF-FE45074E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61E-559C-4D16-8721-23C48A3C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72F5-44A3-48D9-8E28-7278ABA0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9270-2930-405E-BF63-B21EB3CA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D0DE-E9E8-4163-A77D-B6F6242F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E2D7-E579-45C1-886A-40A35925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65F2-B21B-42D6-83C5-BEE79871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672C-DE1A-487C-87DC-8775AE5A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9161-1720-45C1-AF23-BCB0D78E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107-D63F-47B7-9A6A-760CF140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7CB4-4182-4DBD-BC2C-1802C432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E898-A6AC-44AC-B078-76AAA406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86E9-9B85-49B2-BB21-B4A5B3CA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AE81-D30F-404E-A8D8-F6A589A1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1A74-3C72-4DA6-BE39-86B43053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350-95E8-4D98-A956-D9BA0FC5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D6EA-F184-4E67-B08E-11513FEA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E00-9AC1-4665-B769-814C2D2D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B26-C81E-4FE0-918D-7C0C6FDD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36CC-76B4-46A7-B4FF-E428D6D4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F786-1CAE-4DDC-AB0B-263E0EEA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4DF-B517-46BC-A082-FFB958B5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1574-B528-48C2-96D9-AF92A1014B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FE80-CBB3-4461-9F1E-3B8936D33D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" Target="slide6.xml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slide" Target="slide4.xml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25.jpeg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jpeg"/><Relationship Id="rId3" Type="http://schemas.openxmlformats.org/officeDocument/2006/relationships/slide" Target="slide6.xml"/><Relationship Id="rId4" Type="http://schemas.openxmlformats.org/officeDocument/2006/relationships/image" Target="../media/image29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" Target="slide7.xml"/><Relationship Id="rId4" Type="http://schemas.openxmlformats.org/officeDocument/2006/relationships/image" Target="../media/image25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4.xml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28.wmf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6.xml"/><Relationship Id="rId3" Type="http://schemas.openxmlformats.org/officeDocument/2006/relationships/image" Target="../media/image20.jpeg"/><Relationship Id="rId4" Type="http://schemas.openxmlformats.org/officeDocument/2006/relationships/image" Target="../media/image9.jpeg"/><Relationship Id="rId5" Type="http://schemas.openxmlformats.org/officeDocument/2006/relationships/image" Target="../media/image33.jpeg"/><Relationship Id="rId6" Type="http://schemas.openxmlformats.org/officeDocument/2006/relationships/image" Target="../media/image32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" Target="slide7.xml"/><Relationship Id="rId4" Type="http://schemas.openxmlformats.org/officeDocument/2006/relationships/image" Target="../media/image26.jpeg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27.jpeg"/><Relationship Id="rId6" Type="http://schemas.openxmlformats.org/officeDocument/2006/relationships/image" Target="../media/image10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slide" Target="slide4.xml"/><Relationship Id="rId5" Type="http://schemas.openxmlformats.org/officeDocument/2006/relationships/image" Target="../media/image10.png"/><Relationship Id="rId6" Type="http://schemas.openxmlformats.org/officeDocument/2006/relationships/image" Target="../media/image28.wmf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image" Target="../media/image10.png"/><Relationship Id="rId5" Type="http://schemas.openxmlformats.org/officeDocument/2006/relationships/slide" Target="slide7.xml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volution.powernet.ru/library/evolcns.html" TargetMode="External"/><Relationship Id="rId2" Type="http://schemas.openxmlformats.org/officeDocument/2006/relationships/hyperlink" Target="http://evolution.powernet.ru/library/evolcns.html" TargetMode="External"/><Relationship Id="rId3" Type="http://schemas.openxmlformats.org/officeDocument/2006/relationships/hyperlink" Target="http://evolution.powernet.ru/library/evolcns.html" TargetMode="External"/><Relationship Id="rId4" Type="http://schemas.openxmlformats.org/officeDocument/2006/relationships/hyperlink" Target="http://evolution.powernet.ru/library/evolcns.html" TargetMode="External"/><Relationship Id="rId5" Type="http://schemas.openxmlformats.org/officeDocument/2006/relationships/hyperlink" Target="http://evolution.powernet.ru/library/evolcns.html" TargetMode="External"/><Relationship Id="rId6" Type="http://schemas.openxmlformats.org/officeDocument/2006/relationships/hyperlink" Target="http://evolution.powernet.ru/library/evolcns.html" TargetMode="External"/><Relationship Id="rId7" Type="http://schemas.openxmlformats.org/officeDocument/2006/relationships/hyperlink" Target="http://evolution.powernet.ru/library/evolcns.html" TargetMode="External"/><Relationship Id="rId8" Type="http://schemas.openxmlformats.org/officeDocument/2006/relationships/hyperlink" Target="http://www.totl1.com/page.php?p=70" TargetMode="External"/><Relationship Id="rId9" Type="http://schemas.openxmlformats.org/officeDocument/2006/relationships/hyperlink" Target="http://pixers.pl/obrazy-i-plakaty/green-poppie-and-cammomile-fields-10400188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3.xm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slide" Target="slide2.xml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5.xml"/><Relationship Id="rId5" Type="http://schemas.openxmlformats.org/officeDocument/2006/relationships/slide" Target="slide20.xml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16.xml"/><Relationship Id="rId5" Type="http://schemas.openxmlformats.org/officeDocument/2006/relationships/slide" Target="slide11.xm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" Target="slide2.xm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7.xml"/><Relationship Id="rId3" Type="http://schemas.openxmlformats.org/officeDocument/2006/relationships/slide" Target="slide22.xml"/><Relationship Id="rId4" Type="http://schemas.openxmlformats.org/officeDocument/2006/relationships/slide" Target="slide17.xml"/><Relationship Id="rId5" Type="http://schemas.openxmlformats.org/officeDocument/2006/relationships/slide" Target="slide12.xm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" Target="slide4.xml"/><Relationship Id="rId4" Type="http://schemas.openxmlformats.org/officeDocument/2006/relationships/image" Target="../media/image11.png"/><Relationship Id="rId5" Type="http://schemas.openxmlformats.org/officeDocument/2006/relationships/image" Target="../media/image19.png"/><Relationship Id="rId6" Type="http://schemas.openxmlformats.org/officeDocument/2006/relationships/image" Target="../media/image28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лковская И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7524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активный тренажер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равни позвоночных"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480" y="380880"/>
            <a:ext cx="84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7086600" y="4087800"/>
            <a:ext cx="2684520" cy="2390760"/>
            <a:chOff x="7086600" y="4087800"/>
            <a:chExt cx="2684520" cy="239076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08660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000400">
              <a:off x="805644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5288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33920" y="1523880"/>
            <a:ext cx="3292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477120" y="3552840"/>
            <a:ext cx="3457080" cy="3305160"/>
            <a:chOff x="6477120" y="3552840"/>
            <a:chExt cx="3457080" cy="3305160"/>
          </a:xfrm>
        </p:grpSpPr>
        <p:pic>
          <p:nvPicPr>
            <p:cNvPr id="245" name="" descr=""/>
            <p:cNvPicPr/>
            <p:nvPr/>
          </p:nvPicPr>
          <p:blipFill>
            <a:blip r:embed="rId7"/>
            <a:stretch/>
          </p:blipFill>
          <p:spPr>
            <a:xfrm>
              <a:off x="6477120" y="365904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2000400">
              <a:off x="8219520" y="39603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251" name="" descr=""/>
            <p:cNvPicPr/>
            <p:nvPr/>
          </p:nvPicPr>
          <p:blipFill>
            <a:blip r:embed="rId9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19920" y="3170160"/>
            <a:ext cx="3457080" cy="3305160"/>
            <a:chOff x="6019920" y="3170160"/>
            <a:chExt cx="3457080" cy="3305160"/>
          </a:xfrm>
        </p:grpSpPr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019920" y="3276720"/>
              <a:ext cx="259704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2000400">
              <a:off x="7762320" y="3578040"/>
              <a:ext cx="167616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857680" cy="2019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019920" y="274320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95480" y="4419720"/>
            <a:ext cx="3095640" cy="1666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429000" y="144792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86600" y="4467240"/>
            <a:ext cx="2684520" cy="2390760"/>
            <a:chOff x="7086600" y="4467240"/>
            <a:chExt cx="2684520" cy="2390760"/>
          </a:xfrm>
        </p:grpSpPr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708660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rot="2000400">
              <a:off x="805644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705720" y="4240080"/>
            <a:ext cx="2684520" cy="2390760"/>
            <a:chOff x="6705720" y="4240080"/>
            <a:chExt cx="2684520" cy="2390760"/>
          </a:xfrm>
        </p:grpSpPr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670572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2000400">
              <a:off x="767556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857680" cy="24861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705720" y="4087800"/>
            <a:ext cx="2684520" cy="2390760"/>
            <a:chOff x="6705720" y="4087800"/>
            <a:chExt cx="2684520" cy="2390760"/>
          </a:xfrm>
        </p:grpSpPr>
        <p:pic>
          <p:nvPicPr>
            <p:cNvPr id="280" name="" descr=""/>
            <p:cNvPicPr/>
            <p:nvPr/>
          </p:nvPicPr>
          <p:blipFill>
            <a:blip r:embed="rId6"/>
            <a:stretch/>
          </p:blipFill>
          <p:spPr>
            <a:xfrm>
              <a:off x="670572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2000400">
              <a:off x="767556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19520" y="4800600"/>
            <a:ext cx="3095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rcRect l="0" t="3762" r="5885" b="0"/>
          <a:stretch/>
        </p:blipFill>
        <p:spPr>
          <a:xfrm>
            <a:off x="3733920" y="4495680"/>
            <a:ext cx="2438280" cy="19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2862" t="6497" r="2862" b="2430"/>
          <a:stretch/>
        </p:blipFill>
        <p:spPr>
          <a:xfrm>
            <a:off x="6172200" y="1776240"/>
            <a:ext cx="2666880" cy="2262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298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19920" y="3322800"/>
            <a:ext cx="3457080" cy="3305160"/>
            <a:chOff x="6019920" y="3322800"/>
            <a:chExt cx="3457080" cy="3305160"/>
          </a:xfrm>
        </p:grpSpPr>
        <p:pic>
          <p:nvPicPr>
            <p:cNvPr id="302" name="" descr=""/>
            <p:cNvPicPr/>
            <p:nvPr/>
          </p:nvPicPr>
          <p:blipFill>
            <a:blip r:embed="rId8"/>
            <a:stretch/>
          </p:blipFill>
          <p:spPr>
            <a:xfrm>
              <a:off x="6019920" y="342900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2000400">
              <a:off x="7762320" y="3730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24360" y="3170160"/>
            <a:ext cx="3457800" cy="3305160"/>
            <a:chOff x="5724360" y="3170160"/>
            <a:chExt cx="3457800" cy="3305160"/>
          </a:xfrm>
        </p:grpSpPr>
        <p:pic>
          <p:nvPicPr>
            <p:cNvPr id="308" name="" descr=""/>
            <p:cNvPicPr/>
            <p:nvPr/>
          </p:nvPicPr>
          <p:blipFill>
            <a:blip r:embed="rId10"/>
            <a:stretch/>
          </p:blipFill>
          <p:spPr>
            <a:xfrm>
              <a:off x="572436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rot="2000400">
              <a:off x="746712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228600" y="4343400"/>
            <a:ext cx="289548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752480"/>
            <a:ext cx="2514600" cy="2133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15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16" name="" descr=""/>
            <p:cNvPicPr/>
            <p:nvPr/>
          </p:nvPicPr>
          <p:blipFill>
            <a:blip r:embed="rId6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352680" y="457200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бы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емноводные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смыкающиеся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тицы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лекопитающие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словие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305920" y="1905120"/>
            <a:ext cx="509400" cy="5331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160"/>
              <a:gd name="textAreaBottom" fmla="*/ 500400 h 533160"/>
            </a:gdLst>
            <a:ahLst/>
            <a:rect l="textAreaLeft" t="textAreaTop" r="textAreaRight" b="textAreaBottom"/>
            <a:pathLst>
              <a:path w="21600" h="22607">
                <a:moveTo>
                  <a:pt x="0" y="0"/>
                </a:moveTo>
                <a:lnTo>
                  <a:pt x="21600" y="0"/>
                </a:lnTo>
                <a:lnTo>
                  <a:pt x="21600" y="22607"/>
                </a:lnTo>
                <a:lnTo>
                  <a:pt x="0" y="22607"/>
                </a:lnTo>
                <a:close/>
              </a:path>
              <a:path fill="lightenLess" w="21600" h="22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7">
                <a:moveTo>
                  <a:pt x="21600" y="0"/>
                </a:moveTo>
                <a:lnTo>
                  <a:pt x="21600" y="22607"/>
                </a:lnTo>
                <a:lnTo>
                  <a:pt x="20200" y="21207"/>
                </a:lnTo>
                <a:lnTo>
                  <a:pt x="20200" y="1400"/>
                </a:lnTo>
                <a:close/>
              </a:path>
              <a:path fill="darkenLess" w="21600" h="22607">
                <a:moveTo>
                  <a:pt x="21600" y="22607"/>
                </a:moveTo>
                <a:lnTo>
                  <a:pt x="0" y="22607"/>
                </a:lnTo>
                <a:lnTo>
                  <a:pt x="1400" y="21207"/>
                </a:lnTo>
                <a:lnTo>
                  <a:pt x="20200" y="21207"/>
                </a:lnTo>
                <a:close/>
              </a:path>
              <a:path fill="lighten" w="21600" h="22607">
                <a:moveTo>
                  <a:pt x="0" y="22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7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8305920" y="2590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059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305920" y="388620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305920" y="4419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305920" y="5105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>
            <a:hlinkClick r:id="rId1" action="ppaction://hlinksldjump"/>
          </p:cNvPr>
          <p:cNvPicPr/>
          <p:nvPr/>
        </p:nvPicPr>
        <p:blipFill>
          <a:blip r:embed="rId2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3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22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0" name="" descr="">
            <a:hlinkClick r:id="rId3" action="ppaction://hlinksldjump"/>
          </p:cNvPr>
          <p:cNvPicPr/>
          <p:nvPr/>
        </p:nvPicPr>
        <p:blipFill>
          <a:blip r:embed="rId4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42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3581280" y="464832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5"/>
          <a:srcRect l="0" t="23601" r="64005" b="33199"/>
          <a:stretch/>
        </p:blipFill>
        <p:spPr>
          <a:xfrm>
            <a:off x="6400800" y="1523880"/>
            <a:ext cx="2514600" cy="25146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6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52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353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95880" y="3170160"/>
            <a:ext cx="3457800" cy="3305160"/>
            <a:chOff x="6095880" y="3170160"/>
            <a:chExt cx="3457800" cy="3305160"/>
          </a:xfrm>
        </p:grpSpPr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609588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2000400">
              <a:off x="783864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629400" y="3322800"/>
            <a:ext cx="3457800" cy="3305160"/>
            <a:chOff x="6629400" y="3322800"/>
            <a:chExt cx="3457800" cy="3305160"/>
          </a:xfrm>
        </p:grpSpPr>
        <p:pic>
          <p:nvPicPr>
            <p:cNvPr id="359" name="" descr=""/>
            <p:cNvPicPr/>
            <p:nvPr/>
          </p:nvPicPr>
          <p:blipFill>
            <a:blip r:embed="rId9"/>
            <a:stretch/>
          </p:blipFill>
          <p:spPr>
            <a:xfrm>
              <a:off x="6629400" y="34290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000400">
              <a:off x="8372160" y="37306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362" name="" descr=""/>
            <p:cNvPicPr/>
            <p:nvPr/>
          </p:nvPicPr>
          <p:blipFill>
            <a:blip r:embed="rId10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58128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69" name=""/>
          <p:cNvGrpSpPr/>
          <p:nvPr/>
        </p:nvGrpSpPr>
        <p:grpSpPr>
          <a:xfrm>
            <a:off x="6781680" y="4467240"/>
            <a:ext cx="2684520" cy="2390760"/>
            <a:chOff x="6781680" y="4467240"/>
            <a:chExt cx="2684520" cy="2390760"/>
          </a:xfrm>
        </p:grpSpPr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678168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2000400">
              <a:off x="775152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6400800" y="1523880"/>
            <a:ext cx="2554200" cy="254808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6324480" y="4164120"/>
            <a:ext cx="2684880" cy="2390760"/>
            <a:chOff x="6324480" y="4164120"/>
            <a:chExt cx="2684880" cy="2390760"/>
          </a:xfrm>
        </p:grpSpPr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63244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rot="2000400">
              <a:off x="72946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5" name="" descr="">
            <a:hlinkClick r:id="rId3" action="ppaction://hlinksldjump"/>
          </p:cNvPr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89" name="" descr=""/>
            <p:cNvPicPr/>
            <p:nvPr/>
          </p:nvPicPr>
          <p:blipFill>
            <a:blip r:embed="rId7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3962520" y="4876920"/>
            <a:ext cx="4800600" cy="1280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4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6248520" y="3935520"/>
            <a:ext cx="2684880" cy="2390760"/>
            <a:chOff x="6248520" y="3935520"/>
            <a:chExt cx="2684880" cy="239076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tretch/>
          </p:blipFill>
          <p:spPr>
            <a:xfrm>
              <a:off x="6248520" y="42670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 rot="2000400">
              <a:off x="7218720" y="43430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28600" y="1295280"/>
            <a:ext cx="8458200" cy="5029200"/>
            <a:chOff x="228600" y="1295280"/>
            <a:chExt cx="8458200" cy="50292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228600" y="2057400"/>
              <a:ext cx="346536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286000" y="1295280"/>
              <a:ext cx="6400800" cy="1981440"/>
            </a:xfrm>
            <a:prstGeom prst="wedgeRectCallout">
              <a:avLst>
                <a:gd name="adj1" fmla="val -49652"/>
                <a:gd name="adj2" fmla="val 120833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2666880" y="1447920"/>
              <a:ext cx="5639040" cy="175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спасибо з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работу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http</a:t>
            </a: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://</a:t>
            </a: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bioturnir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3"/>
              </a:rPr>
              <a:t>evolution.powernet.ru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5"/>
              </a:rPr>
              <a:t>library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7"/>
              </a:rPr>
              <a:t>evolcns.htm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8"/>
              </a:rPr>
              <a:t>http://www.totl1.com/page.php?p=7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9"/>
              </a:rPr>
              <a:t>http://pixers.pl/obrazy-i-plakaty/green-poppie-and-cammomile-fields-104001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Диск Виртуальная школа Кирилла и Мефодия. Уроки биологии Кирилла и Мефодия.Животные 7 клас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42080" y="259092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1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100760" y="419112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02600" y="68580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63480" y="259092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3400" y="1600200"/>
            <a:ext cx="76212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rcRect l="0" t="0" r="5885" b="0"/>
          <a:stretch/>
        </p:blipFill>
        <p:spPr>
          <a:xfrm>
            <a:off x="3581280" y="1447920"/>
            <a:ext cx="2438640" cy="2019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914400" y="3505320"/>
            <a:ext cx="76212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952880"/>
            <a:ext cx="76176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429000"/>
            <a:ext cx="83808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80880" y="3352680"/>
            <a:ext cx="2552760" cy="1702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8"/>
          <a:srcRect l="0" t="11425" r="0" b="0"/>
          <a:stretch/>
        </p:blipFill>
        <p:spPr>
          <a:xfrm>
            <a:off x="3200400" y="4800600"/>
            <a:ext cx="3368520" cy="1812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40640" y="3200400"/>
            <a:ext cx="211752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27" name="">
            <a:hlinkClick r:id="rId10" action="ppaction://hlinksldjump"/>
          </p:cNvPr>
          <p:cNvSpPr/>
          <p:nvPr/>
        </p:nvSpPr>
        <p:spPr>
          <a:xfrm>
            <a:off x="848196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038480" y="16002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581280"/>
            <a:ext cx="76212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666120" y="205740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354996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7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>
            <a:hlinkClick r:id="rId8" action="ppaction://hlinksldjump"/>
          </p:cNvPr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9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3429000" y="1447920"/>
            <a:ext cx="266688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11"/>
          <a:srcRect l="42375" t="26771" r="50393" b="66403"/>
          <a:stretch/>
        </p:blipFill>
        <p:spPr>
          <a:xfrm>
            <a:off x="609480" y="35812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405640" y="6272280"/>
            <a:ext cx="738360" cy="585720"/>
          </a:xfrm>
          <a:custGeom>
            <a:avLst/>
            <a:gdLst>
              <a:gd name="textAreaLeft" fmla="*/ 37800 w 738360"/>
              <a:gd name="textAreaRight" fmla="*/ 700560 w 738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26" h="21600">
                <a:moveTo>
                  <a:pt x="0" y="0"/>
                </a:moveTo>
                <a:lnTo>
                  <a:pt x="27226" y="0"/>
                </a:lnTo>
                <a:lnTo>
                  <a:pt x="27226" y="21600"/>
                </a:lnTo>
                <a:lnTo>
                  <a:pt x="0" y="21600"/>
                </a:lnTo>
                <a:close/>
              </a:path>
              <a:path fill="lightenLess" w="27226" h="21600">
                <a:moveTo>
                  <a:pt x="0" y="0"/>
                </a:moveTo>
                <a:lnTo>
                  <a:pt x="27226" y="0"/>
                </a:lnTo>
                <a:lnTo>
                  <a:pt x="25826" y="1400"/>
                </a:lnTo>
                <a:lnTo>
                  <a:pt x="1400" y="1400"/>
                </a:lnTo>
                <a:close/>
              </a:path>
              <a:path fill="darken" w="27226" h="21600">
                <a:moveTo>
                  <a:pt x="27226" y="0"/>
                </a:moveTo>
                <a:lnTo>
                  <a:pt x="27226" y="21600"/>
                </a:lnTo>
                <a:lnTo>
                  <a:pt x="25826" y="20200"/>
                </a:lnTo>
                <a:lnTo>
                  <a:pt x="25826" y="1400"/>
                </a:lnTo>
                <a:close/>
              </a:path>
              <a:path fill="darkenLess" w="27226" h="21600">
                <a:moveTo>
                  <a:pt x="27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6" y="20200"/>
                </a:lnTo>
                <a:close/>
              </a:path>
              <a:path fill="lighten" w="27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6" h="21600">
                <a:moveTo>
                  <a:pt x="6606" y="10800"/>
                </a:moveTo>
                <a:lnTo>
                  <a:pt x="20619" y="3794"/>
                </a:lnTo>
                <a:lnTo>
                  <a:pt x="20619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105520"/>
            <a:ext cx="83808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289548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6705720" y="274320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32004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62920" y="3657600"/>
            <a:ext cx="914400" cy="60948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105520"/>
            <a:ext cx="83844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962520"/>
            <a:ext cx="91440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523880"/>
            <a:ext cx="914400" cy="60984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ПОЛОЗ ЖЕЛТОБРЮХИЙ"/>
          <p:cNvPicPr/>
          <p:nvPr/>
        </p:nvPicPr>
        <p:blipFill>
          <a:blip r:embed="rId1"/>
          <a:stretch/>
        </p:blipFill>
        <p:spPr>
          <a:xfrm>
            <a:off x="304920" y="457200"/>
            <a:ext cx="2514600" cy="166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37520" y="28954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553080" y="3657600"/>
            <a:ext cx="2084400" cy="2822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743200" y="48769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819160" cy="211464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3200400" y="1447920"/>
            <a:ext cx="2666880" cy="2514600"/>
          </a:xfrm>
          <a:prstGeom prst="rect">
            <a:avLst/>
          </a:prstGeom>
          <a:ln w="19080">
            <a:solidFill>
              <a:srgbClr val="ff822d"/>
            </a:solidFill>
            <a:miter/>
          </a:ln>
        </p:spPr>
      </p:pic>
      <p:sp>
        <p:nvSpPr>
          <p:cNvPr id="155" name="">
            <a:hlinkClick r:id="rId10" action="ppaction://hlinksldjump"/>
          </p:cNvPr>
          <p:cNvSpPr/>
          <p:nvPr/>
        </p:nvSpPr>
        <p:spPr>
          <a:xfrm>
            <a:off x="8481960" y="619596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105520"/>
            <a:ext cx="838080" cy="60948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42900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3581280"/>
            <a:ext cx="83808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1523880"/>
            <a:ext cx="91440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819520" cy="178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43560" y="40384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1755720" cy="267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352680" y="1523880"/>
            <a:ext cx="243864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990720" y="3200400"/>
            <a:ext cx="928440" cy="3476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8558280" y="634824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10800"/>
                </a:moveTo>
                <a:lnTo>
                  <a:pt x="19415" y="3794"/>
                </a:lnTo>
                <a:lnTo>
                  <a:pt x="19415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3124080" y="4648320"/>
            <a:ext cx="2857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010280" y="3276720"/>
            <a:ext cx="914400" cy="45720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5720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152388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505320"/>
            <a:ext cx="83844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362320" cy="1822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643560" y="365760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971800" y="4371840"/>
            <a:ext cx="2857680" cy="248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rcRect l="2498" t="3714" r="2498" b="3322"/>
          <a:stretch/>
        </p:blipFill>
        <p:spPr>
          <a:xfrm>
            <a:off x="2895480" y="15238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9"/>
          <a:srcRect l="0" t="23601" r="64005" b="33199"/>
          <a:stretch/>
        </p:blipFill>
        <p:spPr>
          <a:xfrm>
            <a:off x="228600" y="3276720"/>
            <a:ext cx="2514600" cy="2514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3" name="">
            <a:hlinkClick r:id="rId10" action="ppaction://hlinksldjump"/>
          </p:cNvPr>
          <p:cNvSpPr/>
          <p:nvPr/>
        </p:nvSpPr>
        <p:spPr>
          <a:xfrm>
            <a:off x="855828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48520" y="2789280"/>
            <a:ext cx="3457080" cy="3305160"/>
            <a:chOff x="6248520" y="2789280"/>
            <a:chExt cx="3457080" cy="330516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6248520" y="289548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00400">
              <a:off x="7990920" y="31968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2712960"/>
            <a:ext cx="3457800" cy="3305160"/>
            <a:chOff x="5943600" y="2712960"/>
            <a:chExt cx="3457800" cy="3305160"/>
          </a:xfrm>
        </p:grpSpPr>
        <p:pic>
          <p:nvPicPr>
            <p:cNvPr id="197" name="" descr=""/>
            <p:cNvPicPr/>
            <p:nvPr/>
          </p:nvPicPr>
          <p:blipFill>
            <a:blip r:embed="rId9"/>
            <a:stretch/>
          </p:blipFill>
          <p:spPr>
            <a:xfrm>
              <a:off x="5943600" y="28195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2000400">
              <a:off x="7686360" y="31208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00016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5480" y="13716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144792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238880" y="4164120"/>
            <a:ext cx="2684880" cy="2390760"/>
            <a:chOff x="7238880" y="4164120"/>
            <a:chExt cx="2684880" cy="23907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72388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2000400">
              <a:off x="82090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0844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49:44Z</dcterms:created>
  <dc:creator>Microsoft Corporation</dc:creator>
  <dc:description/>
  <dc:language>en-US</dc:language>
  <cp:lastModifiedBy>Василий</cp:lastModifiedBy>
  <dcterms:modified xsi:type="dcterms:W3CDTF">2011-07-28T16:57:01Z</dcterms:modified>
  <cp:revision>142</cp:revision>
  <dc:subject/>
  <dc:title>Citrus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00</vt:lpwstr>
  </property>
  <property fmtid="{D5CDD505-2E9C-101B-9397-08002B2CF9AE}" pid="7" name="AssetType">
    <vt:lpwstr>TP</vt:lpwstr>
  </property>
  <property fmtid="{D5CDD505-2E9C-101B-9397-08002B2CF9AE}" pid="8" name="AuthoringAssetId">
    <vt:lpwstr>TP00106900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Citru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Citrus design template</vt:lpwstr>
  </property>
  <property fmtid="{D5CDD505-2E9C-101B-9397-08002B2CF9AE}" pid="33" name="TPInstallLocation">
    <vt:lpwstr>{Document Them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Comments">
    <vt:lpwstr/>
  </property>
  <property fmtid="{D5CDD505-2E9C-101B-9397-08002B2CF9AE}" pid="40" name="UALocRecommendation">
    <vt:lpwstr>Localize</vt:lpwstr>
  </property>
  <property fmtid="{D5CDD505-2E9C-101B-9397-08002B2CF9AE}" pid="41" name="UANotes">
    <vt:lpwstr>LEGACY PPTDT. 421488L. June 2003 retrofit</vt:lpwstr>
  </property>
  <property fmtid="{D5CDD505-2E9C-101B-9397-08002B2CF9AE}" pid="42" name="Version">
    <vt:r8>1</vt:r8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